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D88-74FF-456B-B14F-8FE5AACA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916-2C46-44D3-A97E-89C34256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40C-7295-4145-A09B-6F3C56C4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EB5-B3B8-4219-B0AA-23B0CE6E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D9A-D6F7-4F4E-971C-8C47AD6A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E62-275F-4E45-9751-F9937B01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708-8315-4E32-A90F-976BA2A7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6B3-E672-49A3-9F5E-1465A5B2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747-C680-4D11-9585-CD336CA6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49F-8C31-4529-98ED-EA64207E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53D-6897-4C5D-BB7D-DF16EC40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D9E-E069-4BF4-AF71-FBBF6ECD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AE4A-AC6C-4F48-9840-D8B0BA8F6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ical Houses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Chelsea Hockenhu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0:28:52Z</dcterms:created>
  <dc:creator> </dc:creator>
  <dc:description/>
  <dc:language>en-US</dc:language>
  <cp:lastModifiedBy> </cp:lastModifiedBy>
  <dcterms:modified xsi:type="dcterms:W3CDTF">2009-08-24T08:06:51Z</dcterms:modified>
  <cp:revision>23</cp:revision>
  <dc:subject/>
  <dc:title>Historical Houses Assignment</dc:title>
</cp:coreProperties>
</file>